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870-41C2-4140-A1EA-02CC8EB8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D65-212C-48F5-9F32-531D8DF1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DD5-1F34-43FA-AB32-EA2E4B8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A07-4BE7-4316-AA3E-FD60B3BC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190-1A04-4D2F-843E-68DB0993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C3F-0694-4FB2-B0F3-9CBB4BE3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F1B-227F-48FE-B352-D096D55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3E3-C496-4AD9-B19B-8ADA58C6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EDD-1A77-41B3-B525-C9BB6DB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DD6-146F-41C1-AE74-A7282DD6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B0B-8DB2-4225-A646-63B07EE6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3BE-EB5F-4A71-AAB8-D787E37B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" name="dh015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286000" cy="492120"/>
          </a:xfrm>
          <a:prstGeom prst="rect">
            <a:avLst/>
          </a:prstGeom>
          <a:ln w="0">
            <a:noFill/>
          </a:ln>
        </p:spPr>
      </p:pic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120816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3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F47-3AFF-4EBD-8373-177FA1EF615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286000"/>
            <a:ext cx="63403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数据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李存斌  主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228600"/>
            <a:ext cx="69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数据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简明教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495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目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360" y="19807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SQL Server 2000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是</a:t>
            </a:r>
            <a:r>
              <a:rPr b="1" lang="en-US" sz="2600" spc="-1" strike="noStrike">
                <a:solidFill>
                  <a:srgbClr val="ffffff"/>
                </a:solidFill>
                <a:latin typeface="宋体"/>
              </a:rPr>
              <a:t>Microsoft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公司最新推出的大型数据库管理系统，它建立在成熟而强大的关系模型基础上，可以很好地支持客户机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1" lang="zh-CN" sz="2600" spc="-1" strike="noStrike">
                <a:solidFill>
                  <a:srgbClr val="ffffff"/>
                </a:solidFill>
                <a:latin typeface="宋体"/>
              </a:rPr>
              <a:t>服务器网络模式，能够满足各种类型的企事业单位对构建网络数据库的需求，并且在易用性、可扩展性、可靠性以及数据仓库等方面确立了世界领先的地位，是目前各级各类学校学习大型数据库管理系统的首选教材。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303228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教材共分九章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关系数据库简介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叙述了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ansact-SQ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语言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服务器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数据库对象的操作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是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权限管理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代理服务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复制，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章为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SQL Server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数据转换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5280" y="166680"/>
            <a:ext cx="13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教材的编著过程中注重循序渐进、由浅入深、理论与实践相结合，书中的文字说明、图形显示、程序语句、思考题和上机练习题比例恰当，既便于教师教学、又便于学生学习。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下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0384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67360" y="146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本教材特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本书可作为各大学、专科院校本专科生的教科书，也可作为高职高专学校在校生的教科书，同时也适合具有同等文化程度的读者自学之用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213372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上一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96080" y="146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适用范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第一章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43434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  回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12:43:44Z</dcterms:created>
  <dc:creator>haier</dc:creator>
  <dc:description/>
  <dc:language>en-US</dc:language>
  <cp:lastModifiedBy>lcb</cp:lastModifiedBy>
  <dcterms:modified xsi:type="dcterms:W3CDTF">2001-08-19T07:18:40Z</dcterms:modified>
  <cp:revision>11</cp:revision>
  <dc:subject/>
  <dc:title>PowerPoint 演示文稿</dc:title>
</cp:coreProperties>
</file>